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5A03-34B2-42C8-BA3B-90832803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F60-C9A3-4026-9677-1B7A7B5E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868A-AAD7-449F-8AB9-161BB321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F4CC-FD64-40D0-A538-C3379763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19FD-BBC7-4A60-B116-5F1D86FA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9A68-154F-4FAA-BD46-91CF0B0D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F2E-9DC2-41C4-A0BA-86E50E8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D17-ED82-4590-971D-FC20539E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32B1-39DF-4660-844F-8985ECC7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137-4E70-46D4-B006-AF293277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5414-DADF-40D4-88B2-97C30255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85C-54A3-4577-A74B-5171D4FC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4C1B-C17E-4E99-B98C-75E68B75E667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anner.orizzontescuola.it/nota10giugno_gi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VALUTAZIONE TITOLI E SERVIZI NELLA II FASCIA D’ ISTIT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TABELLA A ALLEGATA AL DM 353 DEL 22/05/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CURTAZIONE SERVIZIO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 SARÀ POSSIBILE VALUTARE ANNI DI SERVIZIO COINCIDENTI CON LA DURATA LEGALE DEI CORSI DI STUDIO, QUALORA L'ABILITAZIONE SIA UTILIZZATA COME TITOLO DI ACCESS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ER QUANTO RIGUARDA I 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OCENTI ABILITATI CON TFA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IL MIUR HA CHIARITO CON LA </a:t>
            </a:r>
            <a:r>
              <a:rPr b="0" lang="it-IT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NOTA DEL 10 GIUGNO 2014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 "AI FINI DELLA DECURTAZIONE DEL SERVIZIO COINCIDENTE CON L'ANNO DI DURATA LEGALE DEL CORSO, L'A.A. DI RIFERIMENTO PER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L TFA È IL 2012/13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IN QUANTO ANNO DI EFFETTIVO SVOLGIMENTO DEL PERCORSO. QUALORA L'ANNO INDICATO FOSSE DIVERSO, LE SEGRETERIE PROCEDERANNO D'UFFICIO ALLA CORREZIONE E CONTATTERANNO L'ASPIRANTE PER LA DICHIARAZIONE DEL SERVIZIO EVENTUALMENTE SVOLTO E DEI TITOLI CONSEGUITI NELL'ANNO ERRONEAMENTE INDICATO"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ERVIZI NON VALUTABILI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 SERVIZI PRESTATI PER L’INSEGNAMEN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ELLA RELIGIONE CATTOLICA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O IN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ATERI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LTERNATIV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NON SONO VALUTABIL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ERVIZIO GIURIDI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ER ESSERE STATO INCLUSO NEGL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LENCHI PRIORITAR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SALVAPRECARI)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VALE SOLO NELLE GRADUATORI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D ESAURIMENT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 E’ VALUTABILE ALTRO SERVIZ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ON E’ VALUTABILE IL SERVIZIO PRESTATO SENZA CHE SIANO STATI VERSATI I CONTRIBUTI PREVIDENZIAL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LUTAZIONE SERVIZI DI INSEGNAMENTO O DI EDUCATOR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LETTERA B TABELLA VALUTAZI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1 : PER OGNI MESE, O FRAZIONE DI ALMENO 16 GIORNI, DI SERVIZIO PRESTATO NELLO SPECIFICO POSTO O CLASSE DI CONCORSO PER CUI SI PROCEDE ALLA VALUTAZIONE, NEGL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STITUTI STATALI O PARITARI E NEI PERCORSI DI FORMAZIONE PROFESSIONALE DI CUI AL CAPO III DEL D.LVO 17/10/05, N. 226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ONO PREVISTI PUNTI 2. NELL’ AS SI POSSONO OTTENERE UN MASSIMO DI 12 PUNTI, PARI A 6 MES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2: SE IL SERVIZIO E’ STATO PRESTATO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STITUTI LEGALMENTE RICONOSCIUT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PUNTI SONO 1 PER OGNI MESE E MASSIMO 6 PUNTI ALL’ AN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EMP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ERVIZIO PER MESI 2= 4 PUNTI ; SERVIZIO PER 46 GIORNI ( 30 + 16) = PUNTI 4 ; SERVIZIO PER 45 GIORNI ( 30 + 15 ) = PUNTI 2 ; SERVIZIO PRESTATO PER 166 GIORNI ( 5 MESI + 16 GIORNI) RAGGIUNGO IL MASSIMO PUNTEGGIO = 12 PUN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PPROFONDIMENTO VALUTAZIONE SERVIZ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ERVIZI CONTEMPORANEI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FINO ALL’ ANNO SCOLASTICO </a:t>
            </a:r>
            <a:r>
              <a:rPr b="1" lang="it-IT" sz="3000" spc="-1" strike="noStrike">
                <a:solidFill>
                  <a:srgbClr val="ff0000"/>
                </a:solidFill>
                <a:latin typeface="Calibri"/>
              </a:rPr>
              <a:t>2002/2003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RIMANE LA VALUTAZIONE DEI SERVIZI PREGRESSI RESI ANCHE IN CONTEMPORANEA, MA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NON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SI VALUTA IL SERVIZIO 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NON SPECIFICO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IL LIMITE DI VALUTAZIONE DEL SERVIZIO COLLOCATO A 12 PUNTI ED UN PERIODO TEMPORALE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NON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SUPERIORE A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MESI IN RIFERIMENTO A TUTTI I SERVIZI CUMULATIVAMENTE PRESTATI NELL’ ANNO SCOLASTICO, SI APPLICA A DECORRERE DAI SERVIZI PRESTATI DALL’ AS </a:t>
            </a:r>
            <a:r>
              <a:rPr b="1" lang="it-IT" sz="3000" spc="-1" strike="noStrike">
                <a:solidFill>
                  <a:srgbClr val="000000"/>
                </a:solidFill>
                <a:latin typeface="Calibri"/>
              </a:rPr>
              <a:t>2003/04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ALL’ ANNO SCOLASTICO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libri"/>
              </a:rPr>
              <a:t>2003/04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IL SERVIZIO PRESTATO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CONTEMPORANEAMENTE 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IN PIU’  CLASSI DI CONCORSO O TIPOLOGIE DI POSTO (AAAA/ EEEE) E’ VALUTATO PER UNA </a:t>
            </a: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SOLA GRADUATORIA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, A SCELTA DELL’INTERESSATO, PER UN MASSIMO DI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6 MESI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DI SERVIZ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ESEMPI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S 04/05 SERVIZIO </a:t>
            </a: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CONTEMPORANEO DI 6 MESI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SU A043 E A050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libri"/>
              </a:rPr>
              <a:t>2 POSSIBILITA’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UNTI </a:t>
            </a: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SU A043 E PUNTI </a:t>
            </a: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SU A050             PUNTI </a:t>
            </a: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12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SU A050 E PUNTI </a:t>
            </a:r>
            <a:r>
              <a:rPr b="1" lang="it-IT" sz="2200" spc="-1" strike="noStrike">
                <a:solidFill>
                  <a:srgbClr val="ff0000"/>
                </a:solidFill>
                <a:latin typeface="Calibri"/>
              </a:rPr>
              <a:t>0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 SU A043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ccia in giù 3"/>
          <p:cNvSpPr/>
          <p:nvPr/>
        </p:nvSpPr>
        <p:spPr>
          <a:xfrm rot="2273400">
            <a:off x="2722320" y="3835440"/>
            <a:ext cx="48564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ccia in giù 4"/>
          <p:cNvSpPr/>
          <p:nvPr/>
        </p:nvSpPr>
        <p:spPr>
          <a:xfrm rot="19386000">
            <a:off x="5589360" y="3819240"/>
            <a:ext cx="485640" cy="26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ERVIZIO NON SPECIFIC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ALL'A.S.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2003/2004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IL SERVIZI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NON SPECIFIC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CIOÈ PRESTATO NELLE SCUOLE STATALI O PARITARIE O NEI PERCORSI DI FORMAZIONE PROFESSIONALE DI CUI AL CAPO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II DEL D.LVO 17/10/05, N. 226 IN CLASSE DI CONCORSO O POSTO DI INSEGNAMEN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IVERS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A QUELLO CUI SI RIFERISCE LA GRADUATORIA) È VALUTAT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AL 50% .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SERVIZIO PRESTATO PRESSO SCUOLE LEGALMENTE RICONOSCIUTE, PAREGGIATE, NELLE SCUOLE PRIMARIE PARIFICATE O NELLE SCUOLE DI INFANZIA AUTORIZZATE, NON PUÒ ESSERE FATTO VALERE COME NON SPECIFICO. TALE DISPOSIZIONE RIGUARDA ANCHE IL SERVIZIO PRESTATO PRESSO LE ISTITUZIONI SCOLASTICHE ALL'ESTER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ER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OG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ANNO SCOLASTICO È POSSIBILE FAR VALUTARE, TRA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ERVIZIO SPECIFICO 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ON SPECIFI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UN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MASSIMO DI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MESI DI SERVIZI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 OGNI SERVIZIO PUÒ ESSERE VALUTATO UNA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SOLA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VOLTA COME SPECIFICO O COME NON SPECI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 SERVIZI DI </a:t>
            </a:r>
            <a:r>
              <a:rPr b="1" lang="it-IT" sz="1900" spc="-1" strike="noStrike" u="sng">
                <a:solidFill>
                  <a:srgbClr val="000000"/>
                </a:solidFill>
                <a:uFillTx/>
                <a:latin typeface="Calibri"/>
              </a:rPr>
              <a:t>I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SCIA ,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DIFFERENTEMENT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ALLA VALUTAZIONE DEI SERVIZI DI </a:t>
            </a:r>
            <a:r>
              <a:rPr b="1" lang="it-IT" sz="1600" spc="-1" strike="noStrike" u="sng">
                <a:solidFill>
                  <a:srgbClr val="ff0000"/>
                </a:solidFill>
                <a:uFillTx/>
                <a:latin typeface="Calibri"/>
              </a:rPr>
              <a:t>II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SCIA , </a:t>
            </a:r>
            <a:r>
              <a:rPr b="1" lang="it-IT" sz="1700" spc="-1" strike="noStrike" u="sng">
                <a:solidFill>
                  <a:srgbClr val="000000"/>
                </a:solidFill>
                <a:uFillTx/>
                <a:latin typeface="Calibri"/>
              </a:rPr>
              <a:t>NON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POSSONO ESSERE FATTI VALERE PER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EDESIM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ANNO SCOLASTICO COME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SPECIFI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SU UNA CLASSE DI CONCORSO E COM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ASPECIFIC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PER ALTRE CLASSI DI CONCORSO . PERTANTO L'ASPIRANTE DEV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OPTAR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A QUALE CLASSE DI CONCORSO ATTRIBUIRLI INDICANDO ALLA PAGINA 7 DEL MODELLO A1, AL CAMPO 7 ,LA GRADUATORIA SULLA QUALE VUOLE FAR VALERE IL SERVIZIO, UTILIZZANDO IL CAMPO 21 SOLTANTO QUANDO SI RIFERISCE A SERVIZIO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NON SPECIFIC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 50%). INFATTI IL CAMPO VA INDICATO SOLTANTO NEL CASO IN CUI SI TRATTI DI SERVIZIO NON SPECIFIC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CasellaDiTesto 20"/>
          <p:cNvSpPr/>
          <p:nvPr/>
        </p:nvSpPr>
        <p:spPr>
          <a:xfrm>
            <a:off x="3728880" y="32655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EE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ttangolo 19"/>
          <p:cNvSpPr/>
          <p:nvPr/>
        </p:nvSpPr>
        <p:spPr>
          <a:xfrm>
            <a:off x="3522600" y="3265560"/>
            <a:ext cx="1008000" cy="4316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ccia in giù 6"/>
          <p:cNvSpPr/>
          <p:nvPr/>
        </p:nvSpPr>
        <p:spPr>
          <a:xfrm rot="14836800">
            <a:off x="3060720" y="209052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ccia in giù 9"/>
          <p:cNvSpPr/>
          <p:nvPr/>
        </p:nvSpPr>
        <p:spPr>
          <a:xfrm rot="19125000">
            <a:off x="2838600" y="30063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CasellaDiTesto 18"/>
          <p:cNvSpPr/>
          <p:nvPr/>
        </p:nvSpPr>
        <p:spPr>
          <a:xfrm>
            <a:off x="3584520" y="19112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ttangolo 17"/>
          <p:cNvSpPr/>
          <p:nvPr/>
        </p:nvSpPr>
        <p:spPr>
          <a:xfrm>
            <a:off x="3476520" y="1911240"/>
            <a:ext cx="1008000" cy="433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reccia in giù 21"/>
          <p:cNvSpPr/>
          <p:nvPr/>
        </p:nvSpPr>
        <p:spPr>
          <a:xfrm rot="14836800">
            <a:off x="3508200" y="409860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reccia in giù 22"/>
          <p:cNvSpPr/>
          <p:nvPr/>
        </p:nvSpPr>
        <p:spPr>
          <a:xfrm rot="17756400">
            <a:off x="3511440" y="4681440"/>
            <a:ext cx="287280" cy="3603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ttangolo 23"/>
          <p:cNvSpPr/>
          <p:nvPr/>
        </p:nvSpPr>
        <p:spPr>
          <a:xfrm>
            <a:off x="4037040" y="4049640"/>
            <a:ext cx="1008000" cy="43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tangolo 24"/>
          <p:cNvSpPr/>
          <p:nvPr/>
        </p:nvSpPr>
        <p:spPr>
          <a:xfrm>
            <a:off x="4056120" y="4853160"/>
            <a:ext cx="1008000" cy="433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asellaDiTesto 25"/>
          <p:cNvSpPr/>
          <p:nvPr/>
        </p:nvSpPr>
        <p:spPr>
          <a:xfrm>
            <a:off x="4211640" y="40813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EE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asellaDiTesto 26"/>
          <p:cNvSpPr/>
          <p:nvPr/>
        </p:nvSpPr>
        <p:spPr>
          <a:xfrm>
            <a:off x="4211640" y="4859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60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EMPI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OCENTE INSERITO PER AAAA ED EEEE CHE HA INSEGNATO PER L’INTERO ANNO SCOLASTICO ( MESI 6 )  2012-13 SU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2 PUNTI SERVIZIO SPECIF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 PUNTI SERVIZ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6 PUNTI SERVIZIO NON SPECIFICO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 PUNTI SERVIZ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NB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L SERVIZIO PRESTATO NELLA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SCUOLA DELL’INFANZIA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NELLA SCUOLA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PRIMARIA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 IN QUALITA’ DI PERSONALE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EDUCATIV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’ VALUTABILE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ESCLUSIVAMENTE 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PER LE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GRADUATORIE RELATIVE A TALI TIPI DI SCUOLE O DI ATTIVITA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’; ANALOGAMENTE, IL SERVIZIO PRESTATO NELLA SCUOLA SECONDARIA DI PRIMO E DI SECONDO GRADO E’ VALUTABILE ESCLUSIVAMENTE PER LE GRADUATORIE RELATIVE A TALI TIPI DI SCUO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DOPPIO PUNTEGGIO SCUOLE DI MONTAGN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L SERVIZIO PRESTATO DALL’A.S. 2003/04 ALL’A.S. 2006/07 NELLE SCUOLE PRIMARIE PLURICLASSI DEI COMUNI DI MONTAGNA, DI CUI ALLA LEGGE 1° MARZO 1957, N. 90, NONCHÉ NELLE SCUOLE DELLE ISOLE MINORI E DEGLI ISTITUTI PENITENZIARI È VALUTATO IN MISURA DOPPI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SUPERVALUTAZIONE DEL SERVIZIO: (M, I O P); LA SUPERVALUTAZIONE È GESTITA PER PERIODI DI SERVIZIO DALL’A.S. 2003/2004 E FINO AL 31/08/2007. E’ VALIDO SOLO SULLA GRADUATORIA SPECIFICA E PUÒ ESSERE SELEZIONATO SOLO PER IL SERVIZIO SU SCUOLA STATALE O PARITARIA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N PLURICLASSE DI SCUOLA PRIMARIA DI MONTAGN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N SCUOLA DI PICCOLA ISOL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N ISTITUTI PENITENZIAR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SERVIZIO SU POSTO DI SOSTEGN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L SERVIZIO SVOLTO NELLE ATTIVITÀ DI SOSTEGNO, SE PRESTATO CON IL POSSESSO DEL PRESCRITTO TITOLO DI STUDIO E CON IL DIPLOMA DI SPECIALIZZAZIONE SUL SOSTEGNO, È VALUTATO IN UNA DELLE CLASSI DI CONCORSO COMPRESE NELL’AREA DISCIPLINARE O POSTO DI APPARTENENZA, A SCELTA DELL’INTERESSATO E RELATIVAMENTE AGLI ISTITUTI DI ISTRUZIONE SECONDARIA DI II GRADO, ANCHE SE PRESTATO IN AREA DIVERSA, IN ASSENZA DI CANDIDATI NELL’AREA DI RIFERIMENTO; IN MANCANZA DI DETTO DIPLOMA DI SPECIALIZZAZIONE LA VALUTAZIONE DEL SERVIZIO È RIFERITA ALLA GRADUATORIA DA CUI È DERIVATA LA POSIZIONE UTILE PER IL CONFERIMENTO DELLA NOMIN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SERVIZIO ALL'ESTERO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L SERVIZIO D’INSEGNAMENTO PRESTATO SUI POSTI DEL CONTINGENTE STATALE ITALIANO ALL’ESTERO, CON ATTO DI NOMINA DEL MINISTERO DEGLI AFFARI ESTERI, NONCHÉ NELLE SCUOLE DELL’UNIONE EUROPEA, RICONOSCIUTE DAGLI ORDINAMENTI COMUNITARI, È EQUIPARATO AL CORRISPONDENTE SERVIZIO PRESTATO IN ITAL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SERVIZIO NEI CENTRI DI FORMAZIONE PROFESSIONA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E' VALUTABILE AI SENSI DEL PUNTO B.1) IL SERVIZIO SVOLTO A PARTIRE DALL’ANNO SCOLASTICO 2008/09 NEI CENTRI DI FORMAZIONE PROFESSIONALE, LIMITATAMENTE AI CORSI ACCREDITATI DALLE REGIONI PER GARANTIRE L’ASSOLVIMENTO DELL’OBBLIGO DI ISTRUZIONE, SE IL SERVIZIO È STATO SVOLTO PER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L’INTERA DURATA DEL PROGETTO FORMATIVO( NOTA F)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. IL SERVIZIO È VALUTABILE SE ESSO SIA RICONDUCIBILE ALLE CLASSI DI CONCORSO DEFINITE DALLE TABELLE DI CORRISPONDENZA PREVISTE DALL’INTESA RELATIVA ALLE LINEE GUIDE PER LA REALIZZAZIONE DI ORGANICI RACCORDI TRA I PERCORSI DI ISTRUZIONE DEGLI ISTITUTI PROFESSIONALI STATALI E I PERCORSI DI ISTRUZIONE E FORMAZIONE PROFESSIONALI REGIONALI (INTESA DEL 16/12/2010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NOTA F ( LETTERA B3)  SIGNIFICA CHE IL SERVIZIO DEVE ESSERE STATO SVOLTO PER I DUE ANNI DI DURATA DEL PROGETTO FORMA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SCUOLE POSSONO CHIEDERE LA CERTIFICAZIONE DI QUANTO SOPRA DIRETTAMENTE ALLA REGIONE CHE HA ATTIVATO IL CO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N NOTA 2134/14 IL MINISTERO HA CHIARITO CHE I SERVIZI PRESTATI CON CONTRATTI ATIPICI, NON DA LAVORO DIPENDENTE, STIPULATI NEI CENTRI DI FORMAZIONE PROFESSIONALE SU INSEGNAMENTI CURRICOLARI, SONO VALUTATI PER L’INTERO PERIODO, SECONDO I MEDESIMI CRITERI PREVISTI PER I CONTRATTI DI LAVORO DIPENDENT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ERVIZIO SCUOLE MILITA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L SERVIZIO PRESTATO NELLE SCUOLE MILITARI, CHE RILASCIANO TITOLI DI STUDIO CORRISPONDENTI A QUELLI DELLA SCUOLA STATALE, È VALUTATO PER INTERO, SE SVOLTO PER I MEDESIMI INSEGNAMENTI CURRICOLARI DELLA SCUOLA STATAL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0T14:00:57Z</dcterms:created>
  <dc:creator>User</dc:creator>
  <dc:description/>
  <dc:language>en-US</dc:language>
  <cp:lastModifiedBy>User</cp:lastModifiedBy>
  <dcterms:modified xsi:type="dcterms:W3CDTF">2014-07-10T21:15:53Z</dcterms:modified>
  <cp:revision>25</cp:revision>
  <dc:subject/>
  <dc:title>VALUTAZIONE II FASCIA ISTITUTO</dc:title>
</cp:coreProperties>
</file>